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2"/>
          </p:nvPr>
        </p:nvSpPr>
        <p:spPr>
          <a:xfrm>
            <a:off x="4038120" y="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830160" y="761760"/>
            <a:ext cx="550224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040" y="48769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3"/>
          </p:nvPr>
        </p:nvSpPr>
        <p:spPr>
          <a:xfrm>
            <a:off x="-360" y="97534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4"/>
          </p:nvPr>
        </p:nvSpPr>
        <p:spPr>
          <a:xfrm>
            <a:off x="4038120" y="97534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172-657F-430A-A365-A5E91DA6AA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30160" y="762120"/>
            <a:ext cx="5502240" cy="3809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8769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38480" y="97534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C6CE-B059-49E7-B829-0FFED72B6D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604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60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348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604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60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74640" y="163080"/>
            <a:ext cx="67168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604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4860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48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604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4860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9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74640" y="163080"/>
            <a:ext cx="67168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604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48600" y="167328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348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604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48600" y="3929040"/>
            <a:ext cx="27068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4640" y="163080"/>
            <a:ext cx="671688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9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600" y="392904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348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600" y="1673280"/>
            <a:ext cx="41025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480" y="3929040"/>
            <a:ext cx="84074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9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ignature"/>
          <p:cNvPicPr/>
          <p:nvPr/>
        </p:nvPicPr>
        <p:blipFill>
          <a:blip r:embed="rId2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PPT_Header01"/>
          <p:cNvPicPr/>
          <p:nvPr/>
        </p:nvPicPr>
        <p:blipFill>
          <a:blip r:embed="rId3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1" marL="122724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2" marL="182556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3" marL="2424240" indent="-41940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4" marL="302256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5" marL="3022560" indent="-419040">
              <a:lnSpc>
                <a:spcPct val="119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6" marL="3022560" indent="-419040">
              <a:lnSpc>
                <a:spcPct val="119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777960" y="6286320"/>
            <a:ext cx="57434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4d4f53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4d4f53"/>
                </a:solidFill>
                <a:latin typeface="Verdana"/>
              </a:rPr>
              <a:t>Document title | Author Name | Place | Data doc | Programme | Pag. </a:t>
            </a:r>
            <a:fld id="{65BBC36F-0CFD-4C52-95CC-3D54276A9241}" type="slidenum">
              <a:rPr b="0" lang="it-IT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signature"/>
          <p:cNvPicPr/>
          <p:nvPr/>
        </p:nvPicPr>
        <p:blipFill>
          <a:blip r:embed="rId2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PPT_Header01"/>
          <p:cNvPicPr/>
          <p:nvPr/>
        </p:nvPicPr>
        <p:blipFill>
          <a:blip r:embed="rId3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7760" y="4354560"/>
            <a:ext cx="4593960" cy="333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8120" y="4924440"/>
            <a:ext cx="6673680" cy="111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" bIns="3600" anchor="b">
            <a:normAutofit fontScale="51000"/>
          </a:bodyPr>
          <a:p>
            <a:pPr marL="174960" indent="-17496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2568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9309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236240" indent="-21384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541160" indent="-213480">
              <a:lnSpc>
                <a:spcPct val="110000"/>
              </a:lnSpc>
              <a:spcBef>
                <a:spcPts val="400"/>
              </a:spcBef>
              <a:buClr>
                <a:srgbClr val="ed1b34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541160" indent="-2134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NotesSoft-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signature"/>
          <p:cNvPicPr/>
          <p:nvPr/>
        </p:nvPicPr>
        <p:blipFill>
          <a:blip r:embed="rId2"/>
          <a:stretch/>
        </p:blipFill>
        <p:spPr>
          <a:xfrm>
            <a:off x="4680" y="6327720"/>
            <a:ext cx="9901440" cy="23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PPT_Header01"/>
          <p:cNvPicPr/>
          <p:nvPr/>
        </p:nvPicPr>
        <p:blipFill>
          <a:blip r:embed="rId3"/>
          <a:stretch/>
        </p:blipFill>
        <p:spPr>
          <a:xfrm>
            <a:off x="0" y="0"/>
            <a:ext cx="9906120" cy="130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63480" y="1673280"/>
            <a:ext cx="84074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1" marL="122724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2" marL="182556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3" marL="2424240" indent="-41940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4" marL="3022560" indent="-419040">
              <a:lnSpc>
                <a:spcPct val="119000"/>
              </a:lnSpc>
              <a:spcBef>
                <a:spcPts val="400"/>
              </a:spcBef>
              <a:buClr>
                <a:srgbClr val="0098d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5" marL="3022560" indent="-419040">
              <a:lnSpc>
                <a:spcPct val="119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  <a:p>
            <a:pPr lvl="6" marL="3022560" indent="-419040">
              <a:lnSpc>
                <a:spcPct val="119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f53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4d4f5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74640" y="163080"/>
            <a:ext cx="671688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elerobotics.esa.int/" TargetMode="External"/><Relationship Id="rId2" Type="http://schemas.openxmlformats.org/officeDocument/2006/relationships/hyperlink" Target="http://www.youtube.com/TeleroboticsLab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134200" y="6292800"/>
            <a:ext cx="17719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98db"/>
                </a:solidFill>
                <a:latin typeface="Verdana"/>
              </a:rPr>
              <a:t>05/09/2013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835360" y="6302520"/>
            <a:ext cx="422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98db"/>
                </a:solidFill>
                <a:latin typeface="Verdana"/>
              </a:rPr>
              <a:t>ESA/ESTEC TELEROBOTICS &amp; HAPTICS LABORATOR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77800" y="6311880"/>
            <a:ext cx="1577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98db"/>
                </a:solidFill>
                <a:latin typeface="Verdana"/>
              </a:rPr>
              <a:t>João Rebel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X-Arm-2 and LBR bar3"/>
          <p:cNvPicPr/>
          <p:nvPr/>
        </p:nvPicPr>
        <p:blipFill>
          <a:blip r:embed="rId1"/>
          <a:srcRect l="13658" t="2273" r="3248" b="21101"/>
          <a:stretch/>
        </p:blipFill>
        <p:spPr>
          <a:xfrm>
            <a:off x="0" y="0"/>
            <a:ext cx="9906120" cy="434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41_digital_logo_grey_HI"/>
          <p:cNvPicPr/>
          <p:nvPr/>
        </p:nvPicPr>
        <p:blipFill>
          <a:blip r:embed="rId2">
            <a:grayscl/>
            <a:lum bright="14000"/>
          </a:blip>
          <a:stretch/>
        </p:blipFill>
        <p:spPr>
          <a:xfrm>
            <a:off x="7772400" y="360360"/>
            <a:ext cx="1663560" cy="820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212120" y="4891680"/>
            <a:ext cx="7665840" cy="468360"/>
          </a:xfrm>
          <a:prstGeom prst="rect">
            <a:avLst/>
          </a:prstGeom>
          <a:solidFill>
            <a:srgbClr val="009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180000" tIns="36000" bIns="360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BILATERAL TELEOPERATION OF MULTI-D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258560" y="5461560"/>
            <a:ext cx="7498080" cy="468360"/>
          </a:xfrm>
          <a:prstGeom prst="rect">
            <a:avLst/>
          </a:prstGeom>
          <a:solidFill>
            <a:srgbClr val="009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2000" rIns="180000" tIns="36000" bIns="360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SLAVE DEVICES WITH ARM EXOSKELET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9" descr="title_arrow"/>
          <p:cNvPicPr/>
          <p:nvPr/>
        </p:nvPicPr>
        <p:blipFill>
          <a:blip r:embed="rId3"/>
          <a:stretch/>
        </p:blipFill>
        <p:spPr>
          <a:xfrm>
            <a:off x="673200" y="4994280"/>
            <a:ext cx="29052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5A58840A-EB88-40D4-9A1B-ED4912476018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Lab introd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Lab established end 2010 (now approx. 10 peo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Research work done at joint TU Delft and European Space Agency (ESA) at the Telerobotics and Haptics La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upervisor: Dr. André Schie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Lab activ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The main lab activities focus on developing technologies for teleoper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Mechatroni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Control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User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ESA Telerobotics and Haptics 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4EBBB0D0-523E-46E9-A74F-7B4D15034135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Main goals of re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Extend existing control algorithms from one-dof to multi-dof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tudy performance and stability of algorithms with and without time-de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Passiv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Transpar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Propose novel solutions to address the difficulties appearing from time-delay and dissimilar multi-dof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ome baselines for this research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“</a:t>
            </a: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mall” time-delays (&lt; 200m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No shared control or predictiv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Ph.D. Research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647044CD-6904-4B8E-BED7-074675EF569E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Mapping of distinct master-slave devices with elbow angl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Propose use of elbow angle mapping as a redundancy resolution mechan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Optimize robot mounting to ensure maximum manipulability and avoidance of joint lim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ome results published on ICCAS 2012 – </a:t>
            </a:r>
            <a:r>
              <a:rPr b="0" lang="en-US" sz="1400" spc="-1" strike="noStrike">
                <a:solidFill>
                  <a:srgbClr val="4d4f53"/>
                </a:solidFill>
                <a:latin typeface="Verdana"/>
              </a:rPr>
              <a:t>Master-slave mapping and slave base placement optimization for intuitive and kinematically robust direct teleope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Ph.D. Research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Current stat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54C09986-634D-47E5-B7A2-C08B342BF651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Ph.D. Research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Current stat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ExarmLwrMapping_LQ.mp4" descr=""/>
          <p:cNvPicPr/>
          <p:nvPr/>
        </p:nvPicPr>
        <p:blipFill>
          <a:blip r:embed="rId1"/>
          <a:stretch/>
        </p:blipFill>
        <p:spPr>
          <a:xfrm>
            <a:off x="927000" y="1430280"/>
            <a:ext cx="804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4ED04208-B9B2-4C0F-A668-943E79302A35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Time-delay st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Proposed a 4-channel extension to Time-Domain Passivity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Results have been submitted (should be available so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8db"/>
                </a:solidFill>
                <a:latin typeface="Verdana"/>
              </a:rPr>
              <a:t>Further activ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Extension of Passivity Control to Multi-DO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Currently preparing hardware for te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ystem performance quantification and analy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Verdana"/>
              </a:rPr>
              <a:t>Some human performance measu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Ph.D. Research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Current status (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77960" y="6286680"/>
            <a:ext cx="60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d4f53"/>
                </a:solidFill>
                <a:latin typeface="Verdana"/>
              </a:rPr>
              <a:t>BILATERAL TELEOPERATION OF MULTI-DOF SLAVE DEVICES WITH ARM EXOSKELETONS | João Rebelo | ESA/ESTEC | Pag. </a:t>
            </a:r>
            <a:fld id="{6BC39029-C97E-40CF-97AF-A9CFA9575326}" type="slidenum">
              <a:rPr b="0" lang="en-GB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63480" y="1430280"/>
            <a:ext cx="83091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8b8d8e"/>
                </a:solidFill>
                <a:uFillTx/>
                <a:latin typeface="Verdana"/>
                <a:hlinkClick r:id="rId1"/>
              </a:rPr>
              <a:t>www.telerobotics.esa.i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8b8d8e"/>
                </a:solidFill>
                <a:uFillTx/>
                <a:latin typeface="Verdana"/>
                <a:hlinkClick r:id="rId2"/>
              </a:rPr>
              <a:t>www.youtube.com/TeleroboticsLa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98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74640" y="393840"/>
            <a:ext cx="6716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More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777960" y="6286680"/>
            <a:ext cx="57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4d4f53"/>
                </a:solidFill>
                <a:latin typeface="Verdana"/>
              </a:rPr>
              <a:t>Document title | Author Name | Place | Data doc | Programme | Pag. </a:t>
            </a:r>
            <a:fld id="{34B070BF-C169-4169-90B7-7A2B704F0717}" type="slidenum">
              <a:rPr b="0" lang="it-IT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04720" y="1606680"/>
            <a:ext cx="8896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1"/>
          <p:cNvSpPr/>
          <p:nvPr/>
        </p:nvSpPr>
        <p:spPr>
          <a:xfrm>
            <a:off x="777960" y="6286680"/>
            <a:ext cx="57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4d4f53"/>
                </a:solidFill>
                <a:latin typeface="Verdana"/>
              </a:rPr>
              <a:t>Document title | Author Name | Place | Data doc | Programme | Pag. </a:t>
            </a:r>
            <a:fld id="{C4D45F3F-E5A1-46FC-8793-5C5A0F1C0BC1}" type="slidenum">
              <a:rPr b="0" lang="it-IT" sz="800" spc="-1" strike="noStrike">
                <a:solidFill>
                  <a:srgbClr val="4d4f53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44640" y="1569960"/>
            <a:ext cx="7813440" cy="1706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800280" y="3400560"/>
            <a:ext cx="81327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9:04:25Z</dcterms:created>
  <dc:creator>Frank</dc:creator>
  <dc:description/>
  <dc:language>en-US</dc:language>
  <cp:lastModifiedBy>zemiti</cp:lastModifiedBy>
  <cp:lastPrinted>2008-07-25T12:21:01Z</cp:lastPrinted>
  <dcterms:modified xsi:type="dcterms:W3CDTF">2013-09-05T14:30:39Z</dcterms:modified>
  <cp:revision>683</cp:revision>
  <dc:subject/>
  <dc:title>Toward the Design of a Low-complexity Space Telerobotic Hand Master</dc:title>
</cp:coreProperties>
</file>